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C31-1648-4708-A0B4-2BCE769E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8E0-8270-418E-9D0E-F8166511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ADC-6C74-42D4-9D07-04BD48C2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8E7-B311-4F55-98F7-E8A3CF6C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8E771-1123-43A6-BA65-50A17858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2D427-5E65-448F-BDAF-CECA421C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0DDAC-A3E2-46A0-8D2E-55EF2F03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02331-9D34-4B1A-B513-C98E29AC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9EAFD-9790-4F6C-B91C-27761125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FE46B-8872-4F78-B0BD-45008A02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EDFDF-1654-4727-81A6-286D331D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70A-E5E5-4F1C-B7D2-299BBA99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B4838-5147-41B4-ACAA-B1FBABB8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C6FFB-9C45-49EF-8E86-AABA9642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DAEBF-8AD6-4B0F-AF35-109DE517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754F5-74A0-4784-86D0-A091E2A1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BB7CA-2770-4F8E-B89B-CF8E4E7E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D9DC5-AEF0-4D39-BDFA-F8713775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5FFD5-9BAB-4E3B-8181-3A48B4AA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ED48F-308B-4867-9572-4DD482DD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94E5-FAA9-43DC-9C86-AF696583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0FD8A-BF00-4919-AB8E-EEC22872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6B7-E864-4B49-8F5A-64AB1A94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D8DC-0A98-47AD-8967-04471E07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76CA4-C64B-4F35-9706-CAFAB249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697F-BCF0-48F7-89FC-521DE557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86A7-4521-4C0C-B1E1-AE4B4B18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AA03-B801-41ED-8CC0-4B02D1F2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F908-5304-4D8B-AFBC-A3A9DC49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25AF-0AC6-41A6-82E3-F037226D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CC6B8-DE7D-4B3B-8708-4D9624D4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5DE7D-AA34-4916-8DC6-7DFAE5F6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1DEDB-F134-4631-9C3F-E92CF04E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A89-0596-4E34-A5EE-DF51BC11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E9630-5A45-4D18-B55E-3C3AB251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643E7-8BBD-4610-B440-82E2321D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364B-FF94-449F-8A1F-7664EBE0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F9DA8-D803-48A7-A9ED-37EA4A38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1E8E6-599E-4185-973D-9C85B0E2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BC07E-11D9-4F0A-BB27-9AF05358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B32A-FF63-4078-8057-139C30E8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EA065-FD1F-4F77-81E3-B3B56923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C6BF2-9451-4705-875C-1518B744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746-E974-442C-9EBB-06B38F3A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1C8-DDB4-4FB8-8BBA-27E6387F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BEE-7CBE-43BE-BD90-712FBA96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12C-5CEF-4176-A54C-5DC46DB2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438-0709-4EC7-A959-48E1A2D0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E20C-6AF4-45D7-BB85-D4DDC7A48E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5BBB-E681-4EB8-9B56-AF54C98E33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8E99-F69C-4D36-BB99-EC51CD63AA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862C-DD30-447E-AA2A-338F8BB7FA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836640"/>
            <a:ext cx="78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 уроку внеклассного чт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литературе в 6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бота выполнена     Селивановой Галиной Геннадьев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чителем  русского языка и литературы    Яренской  муниципальной средней    общеобразовательной шк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Ленского района     Архангельской  област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2011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«Умница – головка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489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 повесть рассказывает о приключениях маленькой  девоч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го рано потеряла родителей. Пережив горечь потерь, пройдя через нелегкие испытания, Марго находит друзей и настав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войны она становится сестрой милосердия. Это бесстрашная героиня, которую любят, которой гордятс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448000" cy="2254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87" name=""/>
          <p:cNvSpPr/>
          <p:nvPr/>
        </p:nvSpPr>
        <p:spPr>
          <a:xfrm flipH="1" flipV="1">
            <a:off x="467640" y="2061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240000" cy="2178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268360" cy="302544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  <p:sp>
        <p:nvSpPr>
          <p:cNvPr id="290" name=""/>
          <p:cNvSpPr txBox="1"/>
          <p:nvPr/>
        </p:nvSpPr>
        <p:spPr>
          <a:xfrm>
            <a:off x="1476360" y="476280"/>
            <a:ext cx="727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cc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бирочка"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cc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1341360"/>
            <a:ext cx="5688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невероятных и полных драматизма историях предстоит участвовать Сибирочке – юной княжне и героине  приключенческой повести Лидии Ча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збежав смертельной опасности, оставшись без родителей , девочка оказывается в логове разбойников. Вот  тут-то  и разворачиваются захватывающие приключен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795760" cy="32385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324000" y="189000"/>
            <a:ext cx="439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ного суровых испытаний пережила Сибирочка у разбойников.   Страшно и одиноко ей было без друзей и от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Горькую несправедливость, обиды и унижения переживала девочка в эти дни. Жизнь была жестока   к  ней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олько знакомство с Андрюшей скрасило её жиз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373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Вдвоем   они   убегают от  жестокого  главаря Зуба  и его разбойников  и     торопятся в Петербу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800"/>
                            </p:stCondLst>
                            <p:childTnLst>
                              <p:par>
                                <p:cTn id="3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8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800"/>
                            </p:stCondLst>
                            <p:childTnLst>
                              <p:par>
                                <p:cTn id="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380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1268280"/>
            <a:ext cx="3687480" cy="439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296" name=""/>
          <p:cNvSpPr/>
          <p:nvPr/>
        </p:nvSpPr>
        <p:spPr>
          <a:xfrm flipH="1">
            <a:off x="5887440" y="981000"/>
            <a:ext cx="25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404640"/>
            <a:ext cx="4787640" cy="55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казавшись в цирке,Сибирочка становится дрессировщицей львов. Автор пишет: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Страшно было видеть эту детскую головку, бес-печно распевающую в огромной пасти великана-льва»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вочку все полюбили: и зрители, и работники цирка.Здесь они с Андрюшей нашли настоящих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той книгой Л .Чарская учит, что друзья на то и существуют, чтобы  в трудные минуты помогать друг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119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440"/>
                            </p:stCondLst>
                            <p:childTnLst>
                              <p:par>
                                <p:cTn id="4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344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195600">
            <a:off x="6372000" y="1196640"/>
            <a:ext cx="2259000" cy="2954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99" name=""/>
          <p:cNvSpPr/>
          <p:nvPr/>
        </p:nvSpPr>
        <p:spPr>
          <a:xfrm>
            <a:off x="1116000" y="26028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«Записки  гимназист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907920"/>
            <a:ext cx="540036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Отношение к бедным людям -главное мерило человеческого достоинства 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Об  этом  повест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аписки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гимназист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Леночка осталась без родителей, ей пришлось поехать в незнакомый Петербург, жить у родственников , которые не любили девочку. В гимназии Лена переживала оскорбления, насмешки , издевательства ,с ней никто не друж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6156360"/>
            <a:ext cx="856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 Black"/>
              </a:rPr>
              <a:t>Умение терпеть несправедливость , вера в то, что зло потерпит поражение, –вот ценные качества  геро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9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90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9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19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790720" cy="3600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4500720" y="189000"/>
            <a:ext cx="43210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Именно так и складывается судьба бедной гимназистки.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Сначала на её сторону переходит маленький Толик, потом исправ-ляется горбунья Жю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 гимназии Леночку любят учителя за её старание в учебе, аккуратность и вежливость. О ней с благодарностью отзываются графиня Анна, тетя Нелли, дядя ...Вскоре девочку полюбили не только в семье Икониных, но и в гимназии.  Даже самый злостный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раг, Жюли, сказала о Лене : «  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Глядя на тебя, мы учимся хорошему. Ты нужна на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149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Мы должны быть внимательнее друг к дру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59500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Этой повестью Л Чарская учит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маленьких читателей, что такие добрые, милосердные люди ,как Леночка, нам  нужны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0" t="13120" r="401" b="0"/>
          <a:stretch/>
        </p:blipFill>
        <p:spPr>
          <a:xfrm>
            <a:off x="468360" y="1341360"/>
            <a:ext cx="2087640" cy="2809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i="1" lang="en-US" sz="2400" spc="-1" strike="noStrike">
                <a:solidFill>
                  <a:srgbClr val="000066"/>
                </a:solidFill>
                <a:latin typeface="Arial Black"/>
              </a:rPr>
              <a:t>Смелая жизнь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»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- историческая повесть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о судьбе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 легендарной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кавалерист -  девицы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Надежды Дуровой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876360" y="119700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1052640"/>
            <a:ext cx="6049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С детства воспитанная по – мальчишески, Надежда в годы Отечественной войны  1812 года прославила свое имя целым рядом подви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Надежду отличают бесстрашие, дисциплинированность, чувство товари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В Бородинском сражении она участвовала наравне со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Эта повесть – урок любви к родной истории, к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448000" cy="20365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468360" y="472428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стория жизни Надежды Дуровой послужила основой для создания кинофильма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Гусарская балла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6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600"/>
                            </p:stCondLst>
                            <p:childTnLst>
                              <p:par>
                                <p:cTn id="5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00"/>
                            </p:stCondLst>
                            <p:childTnLst>
                              <p:par>
                                <p:cTn id="5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6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4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940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19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184480" cy="295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468360" y="260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 Black"/>
              </a:rPr>
              <a:t>О  жизни   Лидии    Чарс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71640" y="1341360"/>
            <a:ext cx="586908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ё сын Юрий  служил в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асной Армии и погиб в Гражданскую вой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1924 году она была уволена из  театра. Чарская очень нуждалась в заработке. Но несколько лет не могла пис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ла её были очень плохи. Мальчики и девочки жалели  писательницу, приходили к ней, помогали  убирать комнату, мыть полы и рассказывали  о своих любимых героях её книг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90792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О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жизни писательницы после революции известно очень   м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4937040"/>
            <a:ext cx="8496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дия Чарская прожила не так много -  всего 6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ние двадцать лет жизни обернулись   для неё  трагед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были годы забвения: целые поколения читателей не слышали её имени, не читали её кн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4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8760"/>
                            </p:stCondLst>
                            <p:childTnLst>
                              <p:par>
                                <p:cTn id="5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760"/>
                            </p:stCondLst>
                            <p:childTnLst>
                              <p:par>
                                <p:cTn id="5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276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48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48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476360" y="-243000"/>
            <a:ext cx="48261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аследие      Чарской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 rot="388800">
            <a:off x="7164360" y="475920"/>
            <a:ext cx="1566720" cy="22320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 rot="21264600">
            <a:off x="395280" y="907920"/>
            <a:ext cx="1406520" cy="201456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1546200" cy="19162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395280" y="35733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е восьмидесяти  книг написала Л Чарская. В её сказках и  повес-тях  всегда счастливый конец.Её герои, пройдя путь испытаний, горя и разочарований, побежд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5003640" y="907920"/>
            <a:ext cx="1575000" cy="1944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250920" y="4581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е победила только сама писательница. Она умерла в бедности и одиночестве и похоронена неизвестно кем на Смоленском кладбище в Ленингра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5734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чевидцы утверждают, что за просторной могилой Лидии Чарской кто-то постоянно ухаживает. Здесь часто видят живые цветы, а ведь после смерти писательницы прощло уже много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476360" y="1844640"/>
            <a:ext cx="1174680" cy="1654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6156360" y="1844640"/>
            <a:ext cx="1314360" cy="1725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560"/>
                            </p:stCondLst>
                            <p:childTnLst>
                              <p:par>
                                <p:cTn id="6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560"/>
                            </p:stCondLst>
                            <p:childTnLst>
                              <p:par>
                                <p:cTn id="6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560"/>
                            </p:stCondLst>
                            <p:childTnLst>
                              <p:par>
                                <p:cTn id="6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60"/>
                            </p:stCondLst>
                            <p:childTnLst>
                              <p:par>
                                <p:cTn id="6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86920" y="2924280"/>
            <a:ext cx="640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 rot="450600">
            <a:off x="542880" y="-860400"/>
            <a:ext cx="8007480" cy="29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дия    Алексеевна  Чарска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 rot="20908800">
            <a:off x="395280" y="21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Личност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4920" y="3860640"/>
            <a:ext cx="50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7200" spc="-1" strike="noStrike">
                <a:solidFill>
                  <a:srgbClr val="990099"/>
                </a:solidFill>
                <a:latin typeface="Times New Roman"/>
              </a:rPr>
              <a:t>Судьб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15772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Творчеств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1152360" cy="96840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299200" y="2060640"/>
            <a:ext cx="3208320" cy="3384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1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69360"/>
            <a:ext cx="821844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Её почитают гением прошлого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43640" y="1773360"/>
            <a:ext cx="1903320" cy="2881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8764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484280"/>
            <a:ext cx="547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Её  книги читали при свече, керосинке, при огне буржуйки, при свете ярких ламп, даже на скамейке под липами. Над ее книгами счастливо забывались девочки и девушки,  героев ее повестей навсегда полюбили мальчишки, познающие жизнь. Над ними плакали русские изгнан-ники, увозившие книги своего детства за границу. Л Чарская  часто получала письма от детей с выражением восторга и любви, с просьбами достать  продолжение  любимой книги .«Как хорошо сознавать, что ты можешь делать добро людям. « Это лучшая  радость королей , это счастье выпало мне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580360" cy="3146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>
            <a:off x="399240" y="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410560" y="835920"/>
            <a:ext cx="631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-819000"/>
            <a:ext cx="86407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 виражах   судьб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9800" y="5877000"/>
            <a:ext cx="79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-1045440" y="5305320"/>
            <a:ext cx="10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ия Чарская окончила Павловский  женский инстит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тербурге, многие героини её романов тоже уча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м институте. Здесь они дружат, влюбля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орятся и очень скучают без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84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6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32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476280"/>
            <a:ext cx="1881000" cy="3600360"/>
          </a:xfrm>
          <a:prstGeom prst="rect">
            <a:avLst/>
          </a:prstGeom>
          <a:ln w="76320">
            <a:solidFill>
              <a:srgbClr val="bb5f03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611280" y="112536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2879640" cy="2203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 rot="21019800">
            <a:off x="2700000" y="-316080"/>
            <a:ext cx="5761080" cy="18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Александринк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25440" y="4005360"/>
            <a:ext cx="235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кончив институт, Чарская попала на сцену  петербургского  Александринского теа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4005360"/>
            <a:ext cx="619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чив театральные курсы, она стала профессиональной актрисой театра. Но знаменитой и   блистательной стать не мо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843280" y="55123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новата оказалась её страсть к литературному творчеству. Она писала стихи, сказки, повести.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20968200">
            <a:off x="539280" y="156960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603000">
            <a:off x="6227640" y="1341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160720" cy="309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26920" y="260280"/>
            <a:ext cx="6309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кавказских повесте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429264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и повести посвящены славному княжескому роду Джаваха, его юным представительницам. Смелая Нина, маленький Юлико, преданная Люда Влассовская, Бэлла – герои этих кни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самые невероятные истории попадают герои ,они учат нас смелости, честности и милосерд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3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49200" cy="2630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74" name=""/>
          <p:cNvSpPr txBox="1"/>
          <p:nvPr/>
        </p:nvSpPr>
        <p:spPr>
          <a:xfrm>
            <a:off x="900000" y="476280"/>
            <a:ext cx="7128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торая  Нина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484280"/>
            <a:ext cx="561636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нилой климат Петербурга ока-зался гибельным для Нины  Джава-хи. Девочка умер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ая памяти любимой подруги, Люда Влассовская приезжает на Кавказ в Гори.    Здесь она обретает названого отца , маленькую сестру Нину.   Так в честь Нины Джавахи назвали свою дочь Бэлла и Израэ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ы! Злой рок преследует семью Джаваха, и вскоре погибают в горах родители малы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ргий Джаваха и Люда становятся родителями  второй Н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558972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Прочитайте повесть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 Black"/>
              </a:rPr>
              <a:t>, и  вы узнаете о жизни второй Нины много интерес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3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романы девоче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яжна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жавах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рая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писки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ститут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бироч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 rot="940800">
            <a:off x="5363640" y="1700280"/>
            <a:ext cx="2665440" cy="4530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 книги мальчи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8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С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мелая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жизн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ff33cc"/>
                </a:solidFill>
                <a:latin typeface="Monotype Corsiva"/>
              </a:rPr>
              <a:t>Щ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елчок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К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няжна</a:t>
            </a: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Джавах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П</a:t>
            </a:r>
            <a:r>
              <a:rPr b="1" i="1" lang="ru-RU" sz="4400" spc="-1" strike="noStrike">
                <a:solidFill>
                  <a:srgbClr val="3366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ж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саревн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Р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ди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семь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12700" r="-2427" b="0"/>
          <a:stretch/>
        </p:blipFill>
        <p:spPr>
          <a:xfrm rot="21230400">
            <a:off x="1187280" y="1844640"/>
            <a:ext cx="2448000" cy="35751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67640" y="5775480"/>
            <a:ext cx="865080" cy="726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24:34Z</dcterms:created>
  <dc:creator>USER</dc:creator>
  <dc:description/>
  <dc:language>en-US</dc:language>
  <cp:lastModifiedBy>Billy</cp:lastModifiedBy>
  <dcterms:modified xsi:type="dcterms:W3CDTF">2012-02-23T18:34:14Z</dcterms:modified>
  <cp:revision>51</cp:revision>
  <dc:subject/>
  <dc:title>Лидия Чарская</dc:title>
</cp:coreProperties>
</file>